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04F-F5A2-4060-B3D8-0D5DBBA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EA0-AD00-4523-A032-1B85A3B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170-65C9-4566-95D9-CB997E6C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334-326F-4706-8802-84EA12CF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4A0-484D-40AE-9209-F5F78D00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2AED-790E-4C41-BCA3-023840FD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58B9-C13C-4B0E-822A-2A855CB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5A4E-A7E0-4E94-81C3-F27833DE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789C-429D-4333-A023-43BF8177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ED72-D455-4F79-8A3D-76AE4EC3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EC6B-4169-4A96-BC60-89CC016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9D9-1FAF-4D47-968B-561BA0BC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BC9D-EEFB-40CA-A88D-D37A2DE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839D-9BD1-46DB-87BA-E448589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CFE0-A913-4F67-BE5F-D2D0A6C9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8509-A853-40F3-BBEE-E41464CE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15F4-61D1-437D-9240-08F544B3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5B1-7C35-47FD-9410-6B18B85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7D6-E3F0-4D28-9FDF-1A2A823B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8B6-AC0A-4EB0-93D1-891F0DB2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474-CB98-4CD8-9BF2-22BF1FC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29F-48C2-4E6A-9832-37BEA0C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DD9-C64F-4F94-B0B4-3647EF9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AD3-5D73-4D62-B6AA-5CC7B65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EC8E-EF5F-4AC8-B1BB-ED901CF2F74C}" type="slidenum">
              <a:rPr b="0" lang="en-A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17F-F603-4388-8A1E-F31310FD78F3}" type="slidenum">
              <a:rPr b="0" lang="en-A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76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1  Networks, advantages &amp; types of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38080" y="2666880"/>
            <a:ext cx="7620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hat is a network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wo or more computers that are interconnected so they can exchange data, information &amp; resources. A networked connection allows computer to communicate with other de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ocial networking sites allow users to exchange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Using groupware enables people to work on same project at sam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371600" y="762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Client/Server: types of serv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71640" y="1836720"/>
            <a:ext cx="792144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AU" sz="2800" spc="-1" strike="noStrike">
                <a:solidFill>
                  <a:srgbClr val="000000"/>
                </a:solidFill>
                <a:latin typeface="Tahoma"/>
              </a:rPr>
              <a:t>proxy server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is a server that acts as an intermediary for requests from clients seeking resources from other servers. A client connects to the proxy server, requesting some service, such as a file, connection, web page, or other resource, available from a different ser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ahoma"/>
              </a:rPr>
              <a:t>the computer in the middle acts as the proxy server between the other tw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350px-Schematic_Proxy_Server_svg.png"/>
          <p:cNvPicPr/>
          <p:nvPr/>
        </p:nvPicPr>
        <p:blipFill>
          <a:blip r:embed="rId1"/>
          <a:stretch/>
        </p:blipFill>
        <p:spPr>
          <a:xfrm>
            <a:off x="2714760" y="4572000"/>
            <a:ext cx="3333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7160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ahoma"/>
              </a:rPr>
              <a:t>Client/Server: types of serv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71640" y="1836720"/>
            <a:ext cx="792144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28760" y="2071800"/>
            <a:ext cx="807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 proxy server has a large variety of potential purposes,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keep machines behind it anonymous, (secur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speed up access to resources (using caching). Web proxies are commonly used to cache web pages from a web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apply access policy to network services or content, e.g. to block undesired si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log / audit usage, i.e. to provide company employee Internet usage report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bypass security/ parental contro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o scan transmitted content for malware before deliver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37160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Peer-to-Peer network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43000" y="2270160"/>
            <a:ext cx="76057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computer on network shares its hardware and software with all other computers on the net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server, so costs are low and installation is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l computers and users have equal authority and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ttle protection of one workstation against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 Used at home or in small organisations with trusted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 Allows sharing of files, internet connection, pri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Internet Peer to Pe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1752480"/>
            <a:ext cx="7162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- Users must enable their computer to be accessed by others over the internet. This allows copying of files from one hard drive to another via the int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ternet music sharing networks such as BitTorrent, Limewire &amp; Kazza are software applications that support peer-to-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is style of network can expose your computer to possible security vio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ahoma"/>
              </a:rPr>
              <a:t>Intrane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403280" y="205740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nal secured environment that has a similar look and feel of the internet, but operates as a LAN (ie: within one organisa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efit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info is control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s communication within an organ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s costs as requires less paper doc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uments are easier to find an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s document maintenance is requi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219320" y="990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dvantages of a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19320" y="2209680"/>
            <a:ext cx="67053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1 Resource 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Interne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Arial"/>
              </a:rPr>
              <a:t>Other resources including network-attached storage (NAS) servers; (device providing file based storage to other devices connect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emote Services: ordering through the internet or in a B2B situation; where customer enters &amp; checks data to make order; ATM eg. of 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26"/>
          <p:cNvSpPr/>
          <p:nvPr/>
        </p:nvSpPr>
        <p:spPr>
          <a:xfrm>
            <a:off x="1752480" y="404640"/>
            <a:ext cx="617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Advantages of a network, cont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042920" y="1919160"/>
            <a:ext cx="810108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haring information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ollaborative documents, intranet, group calendaring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Facilitating communications – email, chat, videoconferenc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Security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password protection, back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6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Types of networks - by siz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027"/>
          <p:cNvSpPr/>
          <p:nvPr/>
        </p:nvSpPr>
        <p:spPr>
          <a:xfrm>
            <a:off x="990720" y="2286000"/>
            <a:ext cx="7162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0000"/>
                </a:solidFill>
                <a:latin typeface="Tahoma"/>
              </a:rPr>
              <a:t>Local Area Network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 (LAN)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typically restricted to one building or one site (eg: Wedderburn Colle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0000"/>
                </a:solidFill>
                <a:latin typeface="Tahoma"/>
              </a:rPr>
              <a:t>Wide Area Network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 (WAN)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– spread over wide distances (eg: Commonwealth Ba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0000"/>
                </a:solidFill>
                <a:latin typeface="Tahoma"/>
              </a:rPr>
              <a:t>Internet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– the Network of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LANs – Local Area Net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90720" y="2286000"/>
            <a:ext cx="7162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Geographically limited, usually to one site, for example a building or camp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raditionally were all cabled but now often use wireless technolog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Distances between buildings dictate the type of communication media used (fibre optic, radio link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reless LAN uses radio waves, satellite, microwave to transmit signals between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026"/>
          <p:cNvSpPr/>
          <p:nvPr/>
        </p:nvSpPr>
        <p:spPr>
          <a:xfrm>
            <a:off x="1295280" y="914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WANs – Wide Area Networ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027"/>
          <p:cNvSpPr/>
          <p:nvPr/>
        </p:nvSpPr>
        <p:spPr>
          <a:xfrm>
            <a:off x="990720" y="1857240"/>
            <a:ext cx="772452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Tahoma"/>
              </a:rPr>
              <a:t>Wide Area Network</a:t>
            </a: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 (WAN) – broad geographic coverage (e.g. state-wide, country-wide, internationa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Communications carried by a medium owned by someone who is not part of the organisation whose data is being transmit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Transmission media include microwave, fibre-optic, telephone lines &amp; sattelli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</a:rPr>
              <a:t>WANs inclu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M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Statewide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National are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Arial"/>
              </a:rPr>
              <a:t>World wide network, eg.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95280" y="40464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Types of networks - by architectur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90720" y="2286000"/>
            <a:ext cx="7162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rchitecture:  design of a computer network; way in which they are conn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lient / Server – one machine (the server) serves out data or files to a number of other machines (cli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eer to Peer – all devices are at the same level, no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ternet Peer to Peer – allows users to connect to someone else’s computer over the inter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37160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00080" y="1643040"/>
            <a:ext cx="800100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computer program (the ‘client’) asks another computer program (the ‘server’) to provide a service, such as looking up and providing data, delivering email, sending web pages, bank balances etc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rver is a larger, faster more expensive computer that is designed to handle a number of tasks at once. All  server s.ware is multi-tasking; (able to process instructions from more than 1 program at the same tim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different types of serv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le servers, store files for use on client comput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cation servers, store applications  to enable clients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371600" y="7621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Client/Server: types of serv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971640" y="1836720"/>
            <a:ext cx="792144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servers, accepts print jobs over the network faster than a printer; workstation gets on with other tasks whilst printing is d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base server; hold d/bases and allows them to be used by many us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servers, connected to internet and serve webpages to view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omain name servers, (DNS’s); translate domain names into IP addresses; browsers request the DNS to provide the IP address so that it can locate website or mail serv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host configuration protocol server, (DHCP), hqnd out the node number to each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e Directory Domain controller, server running AD Dservices; stores directory data &amp; manages communication b/ween users &amp; domains including login processes, authentication &amp; search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Virtual server; software partitions a single server so that it operates as several serv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6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3520" indent="-263520"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13:48Z</dcterms:created>
  <dc:creator>kel</dc:creator>
  <dc:description/>
  <dc:language>en-US</dc:language>
  <cp:lastModifiedBy>01421606</cp:lastModifiedBy>
  <dcterms:modified xsi:type="dcterms:W3CDTF">2010-12-30T00:37:54Z</dcterms:modified>
  <cp:revision>53</cp:revision>
  <dc:subject/>
  <dc:title>PowerPoint Presentation</dc:title>
</cp:coreProperties>
</file>